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358-B4A3-4808-8786-009E7806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472-9B25-4875-88D6-03B5C5D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DA2-5C72-41EC-9415-8BD19FE0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510-3935-4971-8C13-3C745B60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C980-B69F-43F5-A8F3-DF834B0F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269-2CC8-4DAC-8CAC-319DF1F1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8103-5859-49C3-8389-AB86A10E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481B-C8CA-4AB0-AE1B-07630EE1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C71A-B562-45A9-97BF-67EB6B7A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017B-6E13-4EF7-8488-A655F464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6D8B-D6AB-4DC3-A544-03900B27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F81-1BA1-48DB-BB9B-5C7F8786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375-41D1-4053-8DEC-8759CF5C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1D93-12E1-42DB-BADF-91CA23D8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3E14-C9E0-4879-9B1C-9B01CF85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27B4-715B-4879-8464-CC587A88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08F1-18B6-4A8B-AA17-964C446E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896-430C-4117-B82A-65D669B9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262-B6FA-49AF-B706-807EF618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56C-2D6D-4714-9462-AB97936A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ABC-8A31-4F09-9A92-BCAD5C6E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091-BB14-4BDF-8C84-B4739570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70D-DA2D-423E-AB74-39F1F817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44F-30CA-4973-AED0-7338A9A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04DC-22AC-4145-AC79-75E599F4F36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3C0C-769E-43B8-A79E-7A666B3F9CC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. 27 – 3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УМАЙ И ОТВЕТЬ, ПОЧЕМУ ПЕТ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ОВЕЛ В РОССИИ СВОИ ПРЕОБРАЗОВА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ПОМОЩЬЮ КНИГ УЗНАЙ БОЛЬШЕ О ХАРАКТЕРЕ , ПРИВЫЧКАХ И ДЕЛАХ ИМПЕРАТОРА. (РЕФЕРАТ, ДОКЛА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58920" y="260280"/>
            <a:ext cx="626580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340000" y="333360"/>
            <a:ext cx="4608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24360" y="2637000"/>
            <a:ext cx="158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76360" y="4508640"/>
            <a:ext cx="648036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НИМАНИЕ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 rot="20741400">
            <a:off x="987120" y="1992240"/>
            <a:ext cx="1584360" cy="2685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 rot="420600">
            <a:off x="5702040" y="2000160"/>
            <a:ext cx="144468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9:17:19Z</dcterms:created>
  <dc:creator>Администратор</dc:creator>
  <dc:description/>
  <dc:language>en-US</dc:language>
  <cp:lastModifiedBy>Марина</cp:lastModifiedBy>
  <dcterms:modified xsi:type="dcterms:W3CDTF">2007-12-17T16:59:41Z</dcterms:modified>
  <cp:revision>2</cp:revision>
  <dc:subject/>
  <dc:title>Слайд 1</dc:title>
</cp:coreProperties>
</file>